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4AC-F34F-422B-B512-568FC853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0CB-E4F7-4E91-B3DC-AAEDE2B2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E4F-9C80-4748-BF43-87609C96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4ED-2E67-4C35-901C-7DDBFFE6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CD0A-8933-425B-8EDC-85C296AE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27F3-E7FD-4D91-8AE3-2D9DFCF3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49580-B056-4501-991E-238FAE3F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4D2D-B291-4A96-9FD3-C91B341B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F936-6EA3-413D-8A88-17C07BD1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4CE8-1934-4DAA-B8F9-A9EB3D51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62C1-E704-41E5-972D-859F5CAB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3F9-A204-4450-ACD8-CDAAF325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76C4-62A3-4B4B-828A-1D8A3489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D7FA-9463-4A0A-A3F3-0B815FC6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D399-B05A-4E39-9CAD-22FFA989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645E-EC9E-446D-9FAD-06EEF734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CC3E-200B-42DC-A595-05822FF1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5C5-F5F9-46A1-8BEB-53574366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FB36-9064-4901-AA2F-60BB864D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5C3D-EBFE-41D8-8F22-7A29472E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AB4-64A3-4746-8E16-EF8FE175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3E9-DF0E-487C-BE0F-198968D4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4C0-D142-42AB-B2F9-A20A5FBE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B9E4-1949-4672-8CED-93459DE4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4e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B21C-34CD-4639-BE58-5F3224704ED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4e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C0E6-A177-4765-8E25-7813D01FD54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youtube.com/watch?v=ldiPn0ngxK0&amp;feature=related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diPn0ngxK0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Ge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hemis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Observ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Geolo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ar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nvironme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Ev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Significant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Natu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Sustai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xpen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Inv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80060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блюд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ющая сре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ель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в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брет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800600" y="380880"/>
            <a:ext cx="396252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блюд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еологи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кружающая сред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начительны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род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ержив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рого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зобрета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457200" y="457200"/>
          <a:ext cx="8229600" cy="5332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autiful things we ha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ngerous things we 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ngs we can do to protect natu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6386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533520" y="152280"/>
            <a:ext cx="807696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Verdana"/>
              </a:rPr>
              <a:t>Ссылка на видеофрагмент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youtube.com/watch?v=ldiPn0ngxK0&amp;feature=relate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ебник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joy Englis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 для 10 класса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Биболетовой М.З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чебник «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ppy English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»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ля 7-9 классов Клементьевой Т.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youtube.com/watch?v=ldiPn0ngxK0&amp;feature=related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335268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743200" y="380880"/>
            <a:ext cx="32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Geo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chemis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Observa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logi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c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Earth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qu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nvironment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a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ventual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ignificant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l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atur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al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ustain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mis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sion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In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xpen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ventive</a:t>
            </a:r>
            <a:r>
              <a:rPr b="0" lang="ru-RU" sz="2800" spc="-1" strike="noStrike">
                <a:solidFill>
                  <a:srgbClr val="ff3300"/>
                </a:solidFill>
                <a:latin typeface="Verdana"/>
              </a:rPr>
              <a:t>nes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6172200" y="304920"/>
            <a:ext cx="35053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еохими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блюден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еологически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емлетрясение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кружающи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 конечном итог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начительно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родный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ддерживающи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бросы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обретательност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380880"/>
            <a:ext cx="327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chemis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Observ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eologic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arthqu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nvironmental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ventual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ignificantl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atural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Sustaining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Emission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expen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Inventivenes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5105520" y="533520"/>
            <a:ext cx="99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5410080" y="380880"/>
            <a:ext cx="914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Do you know how long these things last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52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traffic tick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banana pe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ool so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ooden stic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painted wooden stak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wax paper c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tin 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aluminum ca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plastic contain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glass bot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WordArt 7"/>
          <p:cNvSpPr txBox="1"/>
          <p:nvPr/>
        </p:nvSpPr>
        <p:spPr>
          <a:xfrm>
            <a:off x="3581280" y="1523880"/>
            <a:ext cx="18288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month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5486400" y="1828800"/>
            <a:ext cx="175752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mont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WordArt 9"/>
          <p:cNvSpPr txBox="1"/>
          <p:nvPr/>
        </p:nvSpPr>
        <p:spPr>
          <a:xfrm>
            <a:off x="3581280" y="2362320"/>
            <a:ext cx="13050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year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WordArt 10"/>
          <p:cNvSpPr txBox="1"/>
          <p:nvPr/>
        </p:nvSpPr>
        <p:spPr>
          <a:xfrm>
            <a:off x="5486400" y="2666880"/>
            <a:ext cx="1595520" cy="4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years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11"/>
          <p:cNvSpPr txBox="1"/>
          <p:nvPr/>
        </p:nvSpPr>
        <p:spPr>
          <a:xfrm>
            <a:off x="4952880" y="3200400"/>
            <a:ext cx="168588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3 years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12"/>
          <p:cNvSpPr txBox="1"/>
          <p:nvPr/>
        </p:nvSpPr>
        <p:spPr>
          <a:xfrm>
            <a:off x="3962520" y="3657600"/>
            <a:ext cx="1380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years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13"/>
          <p:cNvSpPr txBox="1"/>
          <p:nvPr/>
        </p:nvSpPr>
        <p:spPr>
          <a:xfrm>
            <a:off x="5562720" y="39625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0 years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14"/>
          <p:cNvSpPr txBox="1"/>
          <p:nvPr/>
        </p:nvSpPr>
        <p:spPr>
          <a:xfrm>
            <a:off x="3962520" y="4419720"/>
            <a:ext cx="1076040" cy="4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ver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5"/>
          <p:cNvSpPr txBox="1"/>
          <p:nvPr/>
        </p:nvSpPr>
        <p:spPr>
          <a:xfrm>
            <a:off x="5334120" y="4800600"/>
            <a:ext cx="28954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p to 500 years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6"/>
          <p:cNvSpPr txBox="1"/>
          <p:nvPr/>
        </p:nvSpPr>
        <p:spPr>
          <a:xfrm>
            <a:off x="3962520" y="5486400"/>
            <a:ext cx="1218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ver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57200" y="547560"/>
            <a:ext cx="8686800" cy="631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"/>
          <p:cNvPicPr/>
          <p:nvPr/>
        </p:nvPicPr>
        <p:blipFill>
          <a:blip r:embed="rId2"/>
          <a:stretch/>
        </p:blipFill>
        <p:spPr>
          <a:xfrm>
            <a:off x="2590920" y="0"/>
            <a:ext cx="40478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ke word combin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. What does Vernandsky's theory say about the Earth futur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WordArt 6"/>
          <p:cNvSpPr txBox="1"/>
          <p:nvPr/>
        </p:nvSpPr>
        <p:spPr>
          <a:xfrm>
            <a:off x="838080" y="3352680"/>
            <a:ext cx="48196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f the science guide the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ociety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762120" y="4800600"/>
            <a:ext cx="6858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t would soften the human  environmental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impac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. What  does the biologi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think about human impa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on the Earth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533520" y="4038480"/>
            <a:ext cx="83055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People are clever enough to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be able to maintain the rates of progres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. What are the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examples of human intera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with natur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WordArt 4"/>
          <p:cNvSpPr txBox="1"/>
          <p:nvPr/>
        </p:nvSpPr>
        <p:spPr>
          <a:xfrm>
            <a:off x="762120" y="3505320"/>
            <a:ext cx="5867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mission of carbon dioxid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WordArt 5"/>
          <p:cNvSpPr txBox="1"/>
          <p:nvPr/>
        </p:nvSpPr>
        <p:spPr>
          <a:xfrm>
            <a:off x="762120" y="4495680"/>
            <a:ext cx="4190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lobal warming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WordArt 6"/>
          <p:cNvSpPr txBox="1"/>
          <p:nvPr/>
        </p:nvSpPr>
        <p:spPr>
          <a:xfrm>
            <a:off x="762120" y="5334120"/>
            <a:ext cx="35049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utting forests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4. What will help people to lessen human impact on the Earth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WordArt 4"/>
          <p:cNvSpPr txBox="1"/>
          <p:nvPr/>
        </p:nvSpPr>
        <p:spPr>
          <a:xfrm>
            <a:off x="838080" y="3352680"/>
            <a:ext cx="702468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Experts say that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e same inventivenes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hat accelerates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human development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WordArt 5"/>
          <p:cNvSpPr txBox="1"/>
          <p:nvPr/>
        </p:nvSpPr>
        <p:spPr>
          <a:xfrm>
            <a:off x="914400" y="5334120"/>
            <a:ext cx="6477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an be used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to soften human impact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7:48:05Z</dcterms:created>
  <dc:creator>user</dc:creator>
  <dc:description/>
  <dc:language>en-US</dc:language>
  <cp:lastModifiedBy>123</cp:lastModifiedBy>
  <dcterms:modified xsi:type="dcterms:W3CDTF">2012-02-28T19:19:3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